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A20-00C3-40EE-93FF-F712E631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F70-212E-4B67-A283-3CC947AA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98DAB-BCDB-4D7B-80AE-C333966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921EB-B7A5-4361-89A8-0A1C35D4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C33F8-F4B4-4840-957D-DEDB681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8B268-FFDA-48F8-8D36-49038CAA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24C81-A2AB-453F-AE4E-7C65B2F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E4396-0209-491F-9FC1-E3595E4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246B2-0B4D-4C50-B032-C699EF2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F84F5-925A-4C9E-80DB-3EB674F9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5A350-6554-4E2A-B550-0BEA7819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FD778-9987-4119-8801-46D9DCC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389-7160-40E0-8FCD-CC95168F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16459-35DF-4320-8D39-C9E0DE97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0021F-6F92-4A83-B043-9FB90B1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36B3A-C9B4-4DB9-988A-46991EA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48084-B817-42D1-9D82-5B74E24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4687-2E4F-4A5D-B264-845FEF16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FBD0-DFD0-42AD-9799-339187C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9D925-2D29-405E-B625-DA7EE1D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9E290-7CB7-4081-B1CF-54E7759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7B494-E1C5-4182-94DC-340A60D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03BEC-D199-44D8-BEF3-2C48C03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EE8-118D-4018-A8FF-F5F7A40A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825AD-A35F-4374-8752-F45C7A63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89857-F1BD-42C6-930D-C1A2990E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840F2-98EB-4A47-9E95-34F9E3CB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0E4D-65BB-451D-AAFF-D1FA3FDB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9F972-46B2-4168-B7EB-75922E9F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68929-AB6B-4DC9-A873-C01A1DFD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53176-4D16-47B7-8269-EC9A10E7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23E20-5000-41C5-8323-4AECDDB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44A3-7A0E-4FC3-AAA1-A5395D30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73B9-3D59-4CC9-A5D7-E46DC96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5FDC-F4A1-4AE9-A1E6-D2DA0A32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ECDEB-9325-42B4-81F8-E31AC504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A4248-8C69-4096-B377-9F3FF0D8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93F3-8399-48EA-83A6-016B6891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9FA11-33F2-4AD2-8889-631E164B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93B45-5E0D-4201-AE3E-DDABD87A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2B941-28CC-44E6-A530-F3CD22FE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A607-A936-4DBA-8AA9-8767348C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E96E7-5C69-46D8-9A8B-741CDDD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2B0DD-FB94-417A-8D6A-324ECFD3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E28EA-7CC4-4571-B148-19FDB29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FDB2-DF76-4AFA-B720-DC07C28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ECE0A-E162-4A16-980F-C44DEA2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652F0-05EB-47E3-8E97-0D40EB3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39A66-E94F-40C6-8159-7C4B34F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75127-1A0F-4FC3-B0C7-D11026D1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73193-4A04-4A71-9017-75D92B63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6A79C-F1ED-475C-8AB3-CCB9CB00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59609-9537-4D58-80D3-0242DCA9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3DE76A-B762-4552-A191-1E8A82FE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44799-ECA8-4597-9319-EA2C5BCC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1F705-3734-4303-9B5B-6AB0EE8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2CB8-D275-4CE7-951A-609C132D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A1B99-824F-478A-8799-7993A4AD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A2E6D-C6D4-49B3-BA13-A74F7FD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9639B-6264-4C4A-8EE0-318F792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091B6-7B2E-48D1-B6D9-DD6BD61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8AB0F-86B7-4E02-932B-42E44B81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2E8B4-1996-4911-A2AC-B02A32BA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4C2B1-4CAE-4054-AE8C-FC62DD62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B9B84-102F-480C-BA65-736C6AC8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828F2-2092-48D7-BDFB-1B40BE59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5DA6D-E82C-4AC8-BC6B-CA2852D5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3850-6B1E-4692-8551-065281F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0D4E7-3892-4919-BB5C-C0C7C7D4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0E453-ACA9-424B-917D-229201E1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C2B3E-9A17-42AE-9AFD-9DC283E8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C6F9E-A971-470C-A09B-321F56C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7F4CD-7DA3-45ED-8FEC-00E7233C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584DC-0215-4FE3-B1F2-280AF0F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09291-7A37-443E-B4A5-7FA777D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21D4F-D6E3-4344-9DE2-8042140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AD5FE-5A86-414D-BC1E-57FA17B7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8366C-250B-4E0D-B13E-62746D6D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CF4-A6B5-4C92-A593-45E3B450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B2217-A80A-4C44-81FB-CCD2CDEB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0B922-1334-4F6F-A753-A4AA6C4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DD23D-3AAA-4D25-B624-96794F1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ED549-6AE1-4FC3-B913-E22E09C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35630-9081-4D8A-97EE-06767C5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F9D46-0F2F-47AB-B244-BDD53A2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AE63B-10D5-4C5F-92A9-F95682C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5270A-E8EA-4D76-A97B-2735067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A39DE-A831-47AE-97DB-8CE53320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6B19B-D958-4E86-8648-A807FD7B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3AAA-4F80-4C43-98DB-30BBF289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995E5-3E9A-47C7-8471-859DC3DB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9C20-2244-43F9-ABDB-847F8B54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E8D56-056B-4F8A-8752-B24C7BF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F3715-12BA-45CA-8469-6EC0E6A4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C8762-874D-4A2C-8E3C-1795B658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745DA-2EE0-4DBB-9359-482B683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42380-B57E-4B4D-BDD6-E079B76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55C85-2A0F-4078-9365-E706E2F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6A7C5-3831-440E-8108-A389DB5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6D726B-C9B1-4A7F-A854-7E0848E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5FB-16FA-48F0-A5C6-C75BCF4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0405C-0682-4B41-861C-52748DE1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A7ADD-0291-4AE4-88A5-87E3C8CD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CA0E2-9848-4608-8C85-9D93DFF3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C11B3-18A5-43F6-8F3D-D92095DE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4CD29-E14C-42BE-8E79-AAEB2E6F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05084-F6E3-4B56-B86C-D74FDC71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C0B28-9A97-4A7D-B85A-03B2135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FF311-0D4E-4B47-827C-BF585B6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C4EF8-80F9-4C83-B4A8-09300C65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ADC7A-E5BD-40F1-8362-BE6EC7D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903-33C3-45AB-9A3E-4060490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2348-B331-4565-BB09-D2AA072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1A1EB-CEEA-4A68-B413-75BDF645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62080-4555-4BC4-A57F-A5C8C61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DCD94-67E3-40CF-B79F-BE1F7143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A6EDA-E483-4579-9548-B8EC4542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D27AF-D170-4D94-8D12-F3BD1244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BA66F-0F0E-4BD2-953F-F45E5D9F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00A99-00BE-46D8-9F80-3DE8289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9F3D1-2B59-4CC0-ACD1-6FEC2527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77AD1-76AF-4942-BCC2-EE90AD0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E172D-2481-4B84-9615-77B46BD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752-3749-4A8D-B87A-9F67B06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AE2EB-7E98-4D2C-9A6A-56F7DD97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D0EA2-F900-4238-B71F-C945CF5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85B82-07F8-44FF-8202-71338367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D1999-699C-4B6B-8C18-478F07B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7AEC5-3FA4-474C-8604-67C5742B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E0918-45B4-429A-B237-3D82CC0F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B3FD0-6492-4D35-AB62-6CF33DDE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2A07B-058A-4798-9DBA-72630686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278C9-56CA-405A-A03E-06612C4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E2F33-9604-4CEA-BF84-CEB9C235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E6A-BA9B-4E80-B807-215FC26F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1C2A7-B113-4189-863E-82B2951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F3B69-0EA6-4350-9BA8-38EEC49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367DE-FFAF-462E-8F98-45BE1AC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3D019-5548-45B7-9ED4-AB9D4C40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DBFD3-EFF8-4645-B7F2-A3F9121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3E389-5533-49BE-B6E3-4DD2514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8FEF8-8FCA-489E-900F-A7DC5856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EB56E-0A42-4BFF-AB70-3E3E397C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E1543-A719-4894-A2B9-A3A5E8E6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AAFEC-C313-4F82-8523-938093B9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51A-0806-4511-91A3-0E0258DD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DE1A2-6704-4490-9F5E-D24852F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A4BAD-A3C0-4E86-AE28-17B8047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5B235-4AC8-41F2-947A-7A61BF4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0612A-34BD-4158-B206-C4AF078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485C67-35F3-431A-9CF3-5AD64656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DCAA3-C4F4-4ADB-A9C0-D7C7A67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0CE3A-5751-422C-856B-101503F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BEC32-0BAB-4B5B-B141-BD67996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4077D-9002-496B-90A5-2584F843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068477-258D-4422-BDF9-8B37E323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B843-DB4E-45F8-96D1-8817F887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9F79A-D3EF-4AE9-BE34-EA7B2C5D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6ADB8-694A-4711-81E8-E7DB3575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EA16E-D8E6-43ED-B6CC-5B573C58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624D20-3254-4692-AF80-BBDF081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D6256-D2B6-44DE-805A-8FFEBEB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25ECA5-21C4-4129-BF52-697BA35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C95B26-FE88-4280-9DCE-0202321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C51232-7554-4E2C-A327-007643B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378BC3-6C46-4933-AFD8-E982D6A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8194E-7809-424B-82BE-A457D50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C331-EB92-41A8-BEE6-790A2985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D0241-B38A-41FD-A0AC-3345EE8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AFEBEC-4D8C-4D47-AF92-42D447C5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3FB00-32E8-4051-B2D0-07536427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963F-A5D8-4CF7-A6F9-774E81D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8603-FCA4-463A-AFC9-02BEB9C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258C-5C38-46F1-906E-04A9E4B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A9C0-97BD-4B3B-ACD8-79C2289C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C4E-5A56-4A03-A554-A2DF6FF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2289-023B-4427-A84E-52973F52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E79A-7CDD-4B29-B475-E335B6E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F2F7-0BF6-4291-A7DF-39ADC0C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AA58-D536-46DA-825E-41BB0A2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E304-D40E-4F12-8A70-C4E4918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4508-8978-429D-A8A8-26E1D789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4634-9DAA-48B9-BF99-C2D0CFD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2655-4470-427C-9194-4ACBF87D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C85DC-04C4-4B64-BC72-ADA5E18A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725A-0DB2-404D-8CEF-F3CE17F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0C0-ACE8-4B48-A453-2C689A6C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6BAA5-B560-4A7E-B7BF-976874F8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322A-1E48-449B-A9EF-6E02F5D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0F87-8E33-45F2-96A3-E24EEF2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1E0A-60BC-4243-8347-C97E27E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06AC-59D8-4799-A043-8FB0800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4625-71FF-4421-B4DB-D1846734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FFC8-3368-4D71-A1DD-A3C30F9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A1F0-D3CE-403A-BFA2-97D2FA06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7EC2-9B6A-45C4-84FA-5E234793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62F68-D39D-4088-96E0-72C47FE1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DD3-2B50-47F7-89A2-6702DD73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2ACD-947E-4B17-887B-53C5577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56D8A-158B-457B-BB6A-D35E2738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AE06-4401-4BC8-9527-A9EF8800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89F4-7DA6-468F-BA8D-7F6CA8F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76297-6950-4B7D-A968-33BCE25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4CD1-C014-4D5D-8A1F-89974CF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5A96-ABE2-486D-AF06-F9528ED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D69B-01D9-48CB-B250-2A05693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1AD2-07A6-4A13-A913-10A7B24E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64BA-8738-445A-9677-A2A90632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A3B-8E7C-4342-A88D-1023CC2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3517-1989-4CEE-A7F3-B0244F96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9F7E-B8DE-483A-94DD-518B8F7C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3946-9065-4869-81DC-946CE72C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8374-5095-4D1F-9772-CC68D454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F0AAD-7D96-4E6E-AD41-F288FA8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6F4D2-1524-46C2-8B4A-FEBA2D0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93FB6-1395-4984-A9E4-545E0BD1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3513-2A2C-43D9-9C23-877AF24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C4EC-A735-40FB-8CC8-0B266CF8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074F-ACCF-43B5-97D4-0B920EF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11F-CCC5-4614-A62C-D9B1730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6C52-B0AF-4E4B-B502-7460F63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B27B1-6500-4024-AB71-876F7918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DB3B-4258-4DCA-8489-65617AE7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B448-078D-40A3-8E69-6AE747D8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9DB4-A42B-44C9-8E3A-4031645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81CD-7C5A-4C4F-99A5-6A17709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179E-ED6F-426F-ABA8-FB72BA8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41D8-034B-4194-80EB-1299957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59F89-3015-4AE0-9389-332865B8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859A-DE48-49B6-A205-1A64C449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86A-F958-4130-86D2-F2FCF429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3244-C8F7-45C6-8720-5D10576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366C-3E7D-444E-BE8C-0B8F626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B25B-FD55-42AB-92A7-8285370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B5E7C-D7D9-4BD7-9E50-1AFD8B02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6B36-4C1A-404D-A8AE-08A00CC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3C130-7C0A-4697-92E0-4DF7E4B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016B9-E870-456A-8687-8A069CED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889B-94EC-48E8-A8A1-710757F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E0EC-F881-4A1A-A656-D42C2985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225D8-4B68-4798-9D05-6CACB35B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342-3AC1-4E4D-A7A0-31B7EC4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1A937-5050-40CA-B4F1-60FAC048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B180-6F40-4C82-AC88-914CB0E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7FC9-8442-49EA-ACF3-AF26112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C078-34C9-4AA4-AB16-A5E3873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16484-107E-4358-AD9E-407BF0E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5780B-F71A-419E-B336-60829BA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134A-04D6-4321-A4F7-145DBB69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1F02-6B75-4202-858B-DB9CFBF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598D-AE1E-4BD6-A976-1742A978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393FC-74A0-4AD6-86D5-5F25DA22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2A6-8808-4176-BB71-754C80D7E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C81-BB4B-49FB-A89A-6C74EAF87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FA6A-5D74-49FD-9E54-A1C743D47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57C1-A9A8-4297-AE11-9F7BA08FC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0151-3CB9-429F-BA18-F25ED88C7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5E69-489C-4BCD-A377-A708931EA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0C2-9CB0-435D-AF75-CB351CEE8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B1A-F7FB-418A-9640-3CB8269EE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A7F-55E9-4456-9A96-10D63BE02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B0D-60A2-4EAE-BD54-7740ABA72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C36-5F91-4605-AA1E-44364090E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8DAB-4493-4E4F-8A12-3E695BF0B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4563-B6FE-4AB8-BCA6-9226665A8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7BC-D148-49AB-9430-495874F91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DCBC-5BFC-40A8-A78F-B0C10822B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FAD7-8398-4F69-82FE-B3EC1F0D5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3CD-AB0A-46F1-966D-24F260067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E244-FB39-4728-92F0-2EE9E3352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5BC5-53AB-4B92-A1FB-7FA2C8989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AD4-0EA6-47BD-ABDF-A43297E3DB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C45B-A86A-4BEC-A2E2-19938FA72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9223-DF4E-48D7-8FED-4A39938C9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5491-24EE-4248-9EC1-3367B97E7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0C0C-E2E6-42C2-86B2-2B813C8795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3AB1-E8B6-4667-A419-4F0D2C4CC3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1939-C99E-4E1F-A8B6-C9AD24886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C929-51EE-49E4-B28F-9049FA907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0AE-6E6E-4113-A794-F900A18AE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530D-9F98-4C41-BDCB-F60CACCD8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6A2D-5E1C-4118-961D-C1DF9B168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9782-BD72-4AAF-B36D-78A7E5962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357-DD8A-4A45-A21B-1AA28597B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B29-196A-4FC0-BC77-60257E45F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0FBB-73F6-427D-BAEB-0BD64F3E0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151-2E2F-45B0-97A9-59AF08067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FA8-2498-4EF9-82E6-151705652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DD40-769F-4DF5-A656-1485FC0793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CEB6-1240-4093-8C2B-48098E53F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4A9-EDC4-4D02-B29F-2BFAD97B92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26FD-911A-41F7-9C88-903DCA155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95520" y="2971800"/>
            <a:ext cx="5952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485640" y="1833480"/>
            <a:ext cx="8172720" cy="3191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68360" y="308304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24000" y="3774960"/>
            <a:ext cx="8351640" cy="503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250920" y="4408560"/>
            <a:ext cx="835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5920" y="1162080"/>
            <a:ext cx="8372160" cy="4533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156360" y="2290680"/>
            <a:ext cx="1368360" cy="503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564000" y="32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24360" y="32274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708360" y="414972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516720" y="41641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492360" y="50990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012000" y="50990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42880" y="1233360"/>
            <a:ext cx="8058240" cy="4391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340000" y="217656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084720" y="2190600"/>
            <a:ext cx="151164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325600" y="308304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459480" y="4956120"/>
            <a:ext cx="1150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8629560" cy="4095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8374" descr=""/>
          <p:cNvPicPr/>
          <p:nvPr/>
        </p:nvPicPr>
        <p:blipFill>
          <a:blip r:embed="rId2"/>
          <a:stretch/>
        </p:blipFill>
        <p:spPr>
          <a:xfrm>
            <a:off x="668160" y="4262400"/>
            <a:ext cx="7286760" cy="2552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5435640" y="278136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649440" cy="503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989600" y="3759120"/>
            <a:ext cx="64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304920" y="828720"/>
            <a:ext cx="8534160" cy="52005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7353" descr=""/>
          <p:cNvPicPr/>
          <p:nvPr/>
        </p:nvPicPr>
        <p:blipFill>
          <a:blip r:embed="rId2"/>
          <a:stretch/>
        </p:blipFill>
        <p:spPr>
          <a:xfrm>
            <a:off x="1515960" y="2897280"/>
            <a:ext cx="6801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85680" y="824040"/>
            <a:ext cx="8972640" cy="5209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116000" y="2968560"/>
            <a:ext cx="273528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995640" y="2938320"/>
            <a:ext cx="2735280" cy="50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11280" y="3602160"/>
            <a:ext cx="7345440" cy="50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84360" y="4235400"/>
            <a:ext cx="7345080" cy="503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84360" y="4883040"/>
            <a:ext cx="734508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755640" y="5603760"/>
            <a:ext cx="7345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04840" y="801720"/>
            <a:ext cx="8734320" cy="586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6408720" cy="503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11280" y="488304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55640" y="5516640"/>
            <a:ext cx="3311640" cy="503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55640" y="6208560"/>
            <a:ext cx="331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623880" y="2781360"/>
            <a:ext cx="7896240" cy="1295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7920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90360" y="750960"/>
            <a:ext cx="8963280" cy="59911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4278240"/>
            <a:ext cx="4608720" cy="503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826920" y="4956120"/>
            <a:ext cx="4608720" cy="503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755640" y="5575320"/>
            <a:ext cx="460836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84360" y="6237360"/>
            <a:ext cx="4608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4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